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85634-1357-4CB2-A56C-1706EC6FB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449CD-5C2A-40E3-8477-7E2003267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63E5E-8457-45B6-93D6-5F7E63470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53F2F-7B35-4FFE-BFB2-CB56B0C78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5434C-C9DC-44F6-BF69-F863A0631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D6CFF-718D-45E6-85C9-734F1CC60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B5DA5-8312-40AE-B8AC-450C61942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A603A-F326-473A-BDEF-C2EDFBB7F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8E653-CFD2-4A37-A128-39BFC049C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AC485-47A9-4C1B-89F5-04CABBD79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75D0D-8CCC-47E1-A21D-4061F9293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A4192-9878-4618-AC6A-FDC2DDDA5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F12E3-1239-4850-8F4E-61AD22C92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2C22E-747D-4B98-8156-67B569D8F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3ABB7-A889-40BB-B43C-83B3ADB81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4E41F-4670-44C6-A235-D120BDCE8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A0A11-F3ED-4D32-8115-A586125D3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904C7-84CD-44C1-8CB4-2E20F4ADC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BDE1C-902E-4DA2-8717-F920C8A53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E8C93-D34D-4E2A-9277-DD6A32555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8A467-DB9E-4847-A485-F7812C38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D6FB-50EE-419D-A49F-F29046833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BCAF-9D4A-419F-A964-8B50864EB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DF2D-D1CA-45D3-ABEC-F0F31AE7C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E462-9987-4500-A528-202A6F3D5A6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9B9C-074E-4596-A5F0-AF7CB7331E4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66"/>
                </a:solidFill>
                <a:latin typeface="Arial"/>
              </a:rPr>
              <a:t>English</a:t>
            </a:r>
            <a:endParaRPr b="1" lang="en-US" sz="6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Oct. 6</a:t>
            </a:r>
            <a:endParaRPr b="0"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 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urnal respon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ch movi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L</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on is out during the day just as much as at night but sometimes the sun is so bright you can’t see the moon and if the sun werent so bright, you could see planets and stars alright, too.</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torrent::_____:ga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tor:owe::vendor:_______</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 7-questions</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Emile Janz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his relationship to Archi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 8</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urnal respons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66"/>
                </a:solidFill>
                <a:latin typeface="Arial"/>
              </a:rPr>
              <a:t>Homework-Read ch. 9</a:t>
            </a:r>
            <a:endParaRPr b="0" lang="en-US" sz="6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3:13:18Z</dcterms:created>
  <dc:creator>VMS</dc:creator>
  <dc:description/>
  <dc:language>en-US</dc:language>
  <cp:lastModifiedBy>VMS</cp:lastModifiedBy>
  <dcterms:modified xsi:type="dcterms:W3CDTF">2009-10-06T17:28:13Z</dcterms:modified>
  <cp:revision>3</cp:revision>
  <dc:subject/>
  <dc:title>English</dc:title>
</cp:coreProperties>
</file>